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2A54-9BF3-47E3-AAB5-8517E483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CFBE-BCA9-49CF-9EF8-F77DA55A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4B29-21DE-4113-9B11-68B3DD62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9133-5E2D-492D-8096-6FCE0747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9837-53E6-41A8-B069-5880B5FB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DE09-FB86-4846-A60B-8FA6375D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7384-8F35-466A-831D-D1018110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3B27-3829-4AF5-B2C4-141E9197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1996-1ACD-4198-B022-0CF199CC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E522-10FD-43FD-8093-9EED38F4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4963-B862-40D0-911A-1CE88FBE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5BB4-89A8-4D6E-A989-8117A691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6013-1BCA-4E19-925A-CC84EC43D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Dismissal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Go in peace to lo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serve the Lo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name of Christ. Am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48:39Z</dcterms:created>
  <dc:creator>Anon Anon</dc:creator>
  <dc:description/>
  <dc:language>en-US</dc:language>
  <cp:lastModifiedBy>Anon Anon</cp:lastModifiedBy>
  <dcterms:modified xsi:type="dcterms:W3CDTF">2005-08-09T05:28:13Z</dcterms:modified>
  <cp:revision>8</cp:revision>
  <dc:subject/>
  <dc:title>PowerPoint Presentation</dc:title>
</cp:coreProperties>
</file>